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5.gif" ContentType="image/gif"/>
  <Override PartName="/ppt/media/image26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4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2478-4F62-48C0-9DAE-C1C4EE6FB062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488-873D-4B35-972D-D4736158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63E-1DEE-46C8-B4CA-F4385907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F6C-2C6E-4554-B1D9-43471C20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9CA-FC35-4FEF-9F08-16DF08E4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3604-AE19-40A8-919B-87285D3C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1425-553D-42C0-852B-38A7C9E7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3223-D4BF-49E0-88DC-DF60E722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A65E-537D-45A2-9D1F-F977733F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EF86-89A4-4FFE-99CE-2FF1514D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A0C9-EF43-4464-BE5B-6ECC5808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2ECC-7C9A-4026-AB6A-BD685DAA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E28-654B-4F4D-9A9D-8CF9B581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328E-83ED-4B05-90E6-486073DA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A5E0-025A-4175-9885-7017D5D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32EF-85CA-4FEF-8EFB-6DBA6C32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4298-285D-4999-99EF-DDF3568C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E55C-3CFD-445B-B1C8-BC5216C9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3627-9150-479F-B5FE-251D9169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0D1F-784F-4E3A-8525-BB2955A9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6600-EF8E-4AB3-B1B7-7222DC13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1C0F-3ACB-4A1C-813D-28AC473F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F329-CBEC-46DA-92FE-BFD07BD4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4DB-F9C0-4712-9F2D-BD6A5216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3EE4-08A2-403A-86C4-3F4C5C33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625B-531F-4782-B107-8247150F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1AB4-6C12-4EA2-83AD-D29A3FE8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A55C-A4FD-46C3-85A7-FA3B7118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964AA-9708-4457-88F6-9D669D94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0661-81D5-4691-B178-2DBB76A1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95B1-83C1-4C29-9A05-0C799384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E092E-46BF-4F11-B671-98266E81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AB1E9-3D41-4BDD-8A98-0545678B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F625A-796D-409C-9719-9400C2E2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E40-7597-4982-85CB-DE716F61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50E4C-F2CF-4DCE-846C-1589E196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E3D4-B925-4FF7-BAED-49849C5C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262D5-C15B-4E06-A8FE-237D761D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A3EB-9BF1-4DFF-917C-4BD51D71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FDB90-CA94-4D09-B7AC-87368040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9AB3-8DA2-4FD0-A7D5-965683D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A9667-F0A7-4F6B-9D6D-9C03C98C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95F59-A358-4B3D-BF36-5983F3B2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17BB-586A-40AC-9743-79EB97C7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8F8-95AF-4CD7-8FEB-327489D0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A5D-8CF7-4A55-9838-E91DC96B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935-8B83-449B-A69E-CA3B5573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317-B62D-4FBF-9EC0-21EE5CED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FF6-4C83-43BA-AE1F-C66E7872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E8CE-EE00-4255-A661-B7EE06E3C078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46DA-8C78-4047-86AA-CCCBABC88DF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BEE3-BD7E-460E-88F0-A8B8B8960101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C3D5-6240-4F18-9430-7144E72E6DB4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86280" y="2505240"/>
            <a:ext cx="3633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Picture 5" descr="book"/>
          <p:cNvPicPr/>
          <p:nvPr/>
        </p:nvPicPr>
        <p:blipFill>
          <a:blip r:embed="rId1"/>
          <a:stretch/>
        </p:blipFill>
        <p:spPr>
          <a:xfrm>
            <a:off x="684360" y="549360"/>
            <a:ext cx="3767040" cy="4967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94036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796000" y="83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0" name="Picture 5" descr="trna"/>
          <p:cNvPicPr/>
          <p:nvPr/>
        </p:nvPicPr>
        <p:blipFill>
          <a:blip r:embed="rId1"/>
          <a:stretch/>
        </p:blipFill>
        <p:spPr>
          <a:xfrm>
            <a:off x="755640" y="476280"/>
            <a:ext cx="7488360" cy="61437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2972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anim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4" name="Picture 5" descr="aProteinSyn"/>
          <p:cNvPicPr/>
          <p:nvPr/>
        </p:nvPicPr>
        <p:blipFill>
          <a:blip r:embed="rId1"/>
          <a:stretch/>
        </p:blipFill>
        <p:spPr>
          <a:xfrm>
            <a:off x="324000" y="1989000"/>
            <a:ext cx="55432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8" name="Picture 5" descr="ribosome_1"/>
          <p:cNvPicPr/>
          <p:nvPr/>
        </p:nvPicPr>
        <p:blipFill>
          <a:blip r:embed="rId1"/>
          <a:stretch/>
        </p:blipFill>
        <p:spPr>
          <a:xfrm>
            <a:off x="1476360" y="549360"/>
            <a:ext cx="5533920" cy="590400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6"/>
          <p:cNvSpPr/>
          <p:nvPr/>
        </p:nvSpPr>
        <p:spPr>
          <a:xfrm>
            <a:off x="611280" y="2384280"/>
            <a:ext cx="11748960" cy="3853080"/>
          </a:xfrm>
          <a:custGeom>
            <a:avLst/>
            <a:gdLst/>
            <a:ahLst/>
            <a:rect l="l" t="t" r="r" b="b"/>
            <a:pathLst>
              <a:path w="7401" h="2427">
                <a:moveTo>
                  <a:pt x="0" y="930"/>
                </a:moveTo>
                <a:cubicBezTo>
                  <a:pt x="329" y="790"/>
                  <a:pt x="658" y="651"/>
                  <a:pt x="1044" y="613"/>
                </a:cubicBezTo>
                <a:cubicBezTo>
                  <a:pt x="1430" y="575"/>
                  <a:pt x="1830" y="718"/>
                  <a:pt x="2314" y="703"/>
                </a:cubicBezTo>
                <a:cubicBezTo>
                  <a:pt x="2798" y="688"/>
                  <a:pt x="3622" y="537"/>
                  <a:pt x="3947" y="522"/>
                </a:cubicBezTo>
                <a:cubicBezTo>
                  <a:pt x="4272" y="507"/>
                  <a:pt x="4067" y="590"/>
                  <a:pt x="4264" y="613"/>
                </a:cubicBezTo>
                <a:cubicBezTo>
                  <a:pt x="4461" y="636"/>
                  <a:pt x="4612" y="711"/>
                  <a:pt x="5126" y="658"/>
                </a:cubicBezTo>
                <a:cubicBezTo>
                  <a:pt x="5640" y="605"/>
                  <a:pt x="7295" y="0"/>
                  <a:pt x="7348" y="295"/>
                </a:cubicBezTo>
                <a:cubicBezTo>
                  <a:pt x="7401" y="590"/>
                  <a:pt x="6422" y="1508"/>
                  <a:pt x="5443" y="2427"/>
                </a:cubicBez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50920" y="422100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1042920" y="3789000"/>
            <a:ext cx="730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34040" y="30996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outlin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75" name="Picture 5" descr="polysome"/>
          <p:cNvPicPr/>
          <p:nvPr/>
        </p:nvPicPr>
        <p:blipFill>
          <a:blip r:embed="rId1"/>
          <a:stretch/>
        </p:blipFill>
        <p:spPr>
          <a:xfrm>
            <a:off x="324000" y="1414440"/>
            <a:ext cx="8064360" cy="48261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1900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.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used to make polypeptide chain (protein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78" name="Picture 4" descr="ELONGATION3"/>
          <p:cNvPicPr/>
          <p:nvPr/>
        </p:nvPicPr>
        <p:blipFill>
          <a:blip r:embed="rId1"/>
          <a:stretch/>
        </p:blipFill>
        <p:spPr>
          <a:xfrm>
            <a:off x="0" y="1989000"/>
            <a:ext cx="44276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longation_4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6974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000" y="216000"/>
            <a:ext cx="3364920" cy="3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1.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3" name="Picture 5" descr="ELONGATION3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4103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179280" y="4437000"/>
            <a:ext cx="896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8" name="Picture 5" descr="elongation_4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504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0" y="515772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50920" y="5300640"/>
            <a:ext cx="8497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End of Transl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4" name="Picture 5" descr="termination_5"/>
          <p:cNvPicPr/>
          <p:nvPr/>
        </p:nvPicPr>
        <p:blipFill>
          <a:blip r:embed="rId1"/>
          <a:stretch/>
        </p:blipFill>
        <p:spPr>
          <a:xfrm>
            <a:off x="900000" y="189000"/>
            <a:ext cx="7345440" cy="5200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430200" y="587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to Polypeptide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8" name="Picture 5" descr="code_2"/>
          <p:cNvPicPr/>
          <p:nvPr/>
        </p:nvPicPr>
        <p:blipFill>
          <a:blip r:embed="rId1"/>
          <a:stretch/>
        </p:blipFill>
        <p:spPr>
          <a:xfrm>
            <a:off x="4427640" y="2492280"/>
            <a:ext cx="4410000" cy="30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polyphenyl"/>
          <p:cNvPicPr/>
          <p:nvPr/>
        </p:nvPicPr>
        <p:blipFill>
          <a:blip r:embed="rId2"/>
          <a:stretch/>
        </p:blipFill>
        <p:spPr>
          <a:xfrm>
            <a:off x="1117440" y="2800440"/>
            <a:ext cx="2448000" cy="25556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3" name="Picture 5" descr="code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48964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Protein synthesis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g 72-7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NA un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is made of one of the DNA stran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moves out of nucleus into cytoplas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RNA molecules are activated as their complementary amino acids are attached to the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 attaches to the small subunit of the ribosomes in cytoplasm. 6 of the bases in the mRNA are exposed in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RNA bonds complementarily with the mRNA via its anticod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econd tRNA bonds with the next three bases of the mRNA, the amino acid joins onto the amino acid of the first tRNA via a peptide bo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ribosome moves along. The first tRNA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hird tRNA brings a third amino ac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Eventually a stop codon is reached on the mRNA. The newly synthesised polypeptide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06" name="Picture 10" descr="protein_synthesis"/>
          <p:cNvPicPr/>
          <p:nvPr/>
        </p:nvPicPr>
        <p:blipFill>
          <a:blip r:embed="rId1"/>
          <a:stretch/>
        </p:blipFill>
        <p:spPr>
          <a:xfrm>
            <a:off x="1305000" y="260280"/>
            <a:ext cx="6427800" cy="6597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1180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Rough endoplasmic reticulum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1" name="Picture 5" descr="rough1"/>
          <p:cNvPicPr/>
          <p:nvPr/>
        </p:nvPicPr>
        <p:blipFill>
          <a:blip r:embed="rId1"/>
          <a:stretch/>
        </p:blipFill>
        <p:spPr>
          <a:xfrm>
            <a:off x="241128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5" name="Picture 5" descr="rough4"/>
          <p:cNvPicPr/>
          <p:nvPr/>
        </p:nvPicPr>
        <p:blipFill>
          <a:blip r:embed="rId1"/>
          <a:stretch/>
        </p:blipFill>
        <p:spPr>
          <a:xfrm>
            <a:off x="2340000" y="24210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5636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ne ribosome from the RER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9" name="Picture 5" descr="rough3"/>
          <p:cNvPicPr/>
          <p:nvPr/>
        </p:nvPicPr>
        <p:blipFill>
          <a:blip r:embed="rId1"/>
          <a:stretch/>
        </p:blipFill>
        <p:spPr>
          <a:xfrm>
            <a:off x="1979640" y="1628640"/>
            <a:ext cx="4968720" cy="496908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3" name="Picture 5" descr="rough3"/>
          <p:cNvPicPr/>
          <p:nvPr/>
        </p:nvPicPr>
        <p:blipFill>
          <a:blip r:embed="rId1"/>
          <a:stretch/>
        </p:blipFill>
        <p:spPr>
          <a:xfrm>
            <a:off x="2411280" y="1484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2764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A ribosom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7" name="Picture 5" descr="cyto3"/>
          <p:cNvPicPr/>
          <p:nvPr/>
        </p:nvPicPr>
        <p:blipFill>
          <a:blip r:embed="rId1"/>
          <a:stretch/>
        </p:blipFill>
        <p:spPr>
          <a:xfrm>
            <a:off x="2050920" y="134136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7" name="Picture 5" descr="dogma1"/>
          <p:cNvPicPr/>
          <p:nvPr/>
        </p:nvPicPr>
        <p:blipFill>
          <a:blip r:embed="rId1"/>
          <a:stretch/>
        </p:blipFill>
        <p:spPr>
          <a:xfrm>
            <a:off x="395280" y="3213000"/>
            <a:ext cx="8353440" cy="13924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68360" y="4365720"/>
            <a:ext cx="82072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2" name="Picture 5" descr="central_dogma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856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6" name="Picture 8" descr="cendogma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46213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cription 1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(making a mRNA copy of DNA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0" name="Picture 5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042920" y="4724280"/>
            <a:ext cx="727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crip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6" name="Picture 5" descr="11_4c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11_4d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3144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684360" y="515772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2" name="Picture 5" descr="template_stran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831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72640" y="810360"/>
            <a:ext cx="7833600" cy="62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NA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pick up their specific amino acids from the cytoplasm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6" name="Picture 5" descr="tRNA2"/>
          <p:cNvPicPr/>
          <p:nvPr/>
        </p:nvPicPr>
        <p:blipFill>
          <a:blip r:embed="rId1"/>
          <a:stretch/>
        </p:blipFill>
        <p:spPr>
          <a:xfrm>
            <a:off x="755640" y="1916280"/>
            <a:ext cx="7489800" cy="4941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24:59Z</dcterms:created>
  <dc:creator>Bella Griffiths</dc:creator>
  <dc:description/>
  <dc:language>en-US</dc:language>
  <cp:lastModifiedBy>LEGION2</cp:lastModifiedBy>
  <dcterms:modified xsi:type="dcterms:W3CDTF">2016-01-11T13:49:33Z</dcterms:modified>
  <cp:revision>77</cp:revision>
  <dc:subject/>
  <dc:title>Slide 1</dc:title>
</cp:coreProperties>
</file>